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ntro-short.wav" ContentType="audio/x-wav"/>
  <Override PartName="/ppt/media/CHIMES.WAV" ContentType="audio/x-wav"/>
  <Override PartName="/ppt/media/dailydouble.wav" ContentType="audio/x-wav"/>
  <Override PartName="/ppt/media/endround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  <p:custShowLst>
    <p:custShow name="c1r1" id="0">
      <p:sldLst>
        <p:sld r:id="rId7"/>
        <p:sld r:id="rId12"/>
      </p:sldLst>
    </p:custShow>
    <p:custShow name="c1r2" id="1">
      <p:sldLst>
        <p:sld r:id="rId8"/>
        <p:sld r:id="rId13"/>
      </p:sldLst>
    </p:custShow>
    <p:custShow name="c1r3" id="2">
      <p:sldLst>
        <p:sld r:id="rId9"/>
        <p:sld r:id="rId14"/>
      </p:sldLst>
    </p:custShow>
    <p:custShow name="c1r4" id="3">
      <p:sldLst>
        <p:sld r:id="rId10"/>
        <p:sld r:id="rId15"/>
      </p:sldLst>
    </p:custShow>
    <p:custShow name="c1r5" id="4">
      <p:sldLst>
        <p:sld r:id="rId11"/>
        <p:sld r:id="rId16"/>
      </p:sldLst>
    </p:custShow>
    <p:custShow name="c2r1" id="5">
      <p:sldLst>
        <p:sld r:id="rId17"/>
        <p:sld r:id="rId22"/>
      </p:sldLst>
    </p:custShow>
    <p:custShow name="c2r2" id="6">
      <p:sldLst>
        <p:sld r:id="rId18"/>
        <p:sld r:id="rId23"/>
      </p:sldLst>
    </p:custShow>
    <p:custShow name="c2r3" id="7">
      <p:sldLst>
        <p:sld r:id="rId19"/>
        <p:sld r:id="rId24"/>
      </p:sldLst>
    </p:custShow>
    <p:custShow name="c2r4" id="8">
      <p:sldLst>
        <p:sld r:id="rId20"/>
        <p:sld r:id="rId25"/>
      </p:sldLst>
    </p:custShow>
    <p:custShow name="c2r5" id="9">
      <p:sldLst>
        <p:sld r:id="rId21"/>
        <p:sld r:id="rId26"/>
      </p:sldLst>
    </p:custShow>
    <p:custShow name="c3r1" id="10">
      <p:sldLst>
        <p:sld r:id="rId27"/>
        <p:sld r:id="rId32"/>
      </p:sldLst>
    </p:custShow>
    <p:custShow name="c3r2" id="11">
      <p:sldLst>
        <p:sld r:id="rId28"/>
        <p:sld r:id="rId33"/>
      </p:sldLst>
    </p:custShow>
    <p:custShow name="c3r3" id="12">
      <p:sldLst>
        <p:sld r:id="rId29"/>
        <p:sld r:id="rId34"/>
      </p:sldLst>
    </p:custShow>
    <p:custShow name="c3r4" id="13">
      <p:sldLst>
        <p:sld r:id="rId30"/>
        <p:sld r:id="rId35"/>
      </p:sldLst>
    </p:custShow>
    <p:custShow name="c3r5" id="14">
      <p:sldLst>
        <p:sld r:id="rId31"/>
        <p:sld r:id="rId36"/>
      </p:sldLst>
    </p:custShow>
    <p:custShow name="c4r1" id="15">
      <p:sldLst>
        <p:sld r:id="rId37"/>
        <p:sld r:id="rId42"/>
      </p:sldLst>
    </p:custShow>
    <p:custShow name="c4r2" id="16">
      <p:sldLst>
        <p:sld r:id="rId38"/>
        <p:sld r:id="rId43"/>
      </p:sldLst>
    </p:custShow>
    <p:custShow name="c4r3" id="17">
      <p:sldLst>
        <p:sld r:id="rId39"/>
        <p:sld r:id="rId44"/>
      </p:sldLst>
    </p:custShow>
    <p:custShow name="c4r4" id="18">
      <p:sldLst>
        <p:sld r:id="rId40"/>
        <p:sld r:id="rId45"/>
      </p:sldLst>
    </p:custShow>
    <p:custShow name="c4r5" id="19">
      <p:sldLst>
        <p:sld r:id="rId41"/>
        <p:sld r:id="rId4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00"/>
                </a:solidFill>
                <a:latin typeface="Flareserif821 B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date/time&gt;</a:t>
            </a:r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Click to move the slide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00"/>
                </a:solidFill>
                <a:latin typeface="Flareserif821 B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0CE9-DD49-4914-B74D-55A6E4C52B2B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FC81-20E2-4BBE-B025-366D2BDC48A8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01E4-B206-47F2-B405-B35377771FAF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84D9-809B-48F3-9DFE-B6E0A6E7C61D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055C-FF72-4174-81C9-E80D66E3FB58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425F-EED7-42EA-B931-260BF64043E7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AE0F-E5DC-4FCF-BFED-794FB3861793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B952-F92D-41DE-A20B-DFB85E6DE429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D0B0-8F1C-4646-A164-1E660046F71A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353F-2548-4DA7-B0D7-A633C666339F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1590-A169-417A-A26B-78007C763837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20AB-BB21-42A3-A8CC-DBB02C3B3A27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BAC3-E172-4649-8319-C624BBE53841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EF47-AA72-4F50-8852-D4CAEF1CA75A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5B73-56AD-44DD-9D0F-56B1B4386B22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4884-C8D1-443F-A294-45A2FDF5A6B2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FC41-F33D-4D81-9452-C832359A2739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7AF2-13A2-47D0-A52D-2CD0DA7A9CEC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6620-718B-434A-8E4B-B366001FAE5C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D72F-BD51-4870-9EF6-1F720206BA81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8F6B-4CA9-4845-AD5D-4F4145CC3B5E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5357-563C-4CA1-9624-421025AD0703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2F2F-CCB8-42D1-A4AD-1D23A4C16BD5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E995-F7EA-4017-8792-2EE873F7EAB6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AFFF-829A-4519-8C2E-823E300B4923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33B2-9514-43EF-8117-741FDE206BF8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D25B-8048-4A02-A821-6FE987AFE87C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F13C-7C13-4B6A-B64A-DC2FBC731ED4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2CD2-5CB0-48E3-B543-AD3AC3014CF5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95A0-9975-41AB-BED8-FF64BF8CD2B0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E194-79A8-4729-A81D-C69F958FAC19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4C58-65E7-446F-9D88-73586B2BAF5A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1465-4ABE-4D6A-AAD6-BF4C4E37EF4F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87D6-87B7-491B-B17B-6D550ACC094A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CB9B-BEA7-43AA-BE42-57F89CBCD854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1E90-0581-419F-A224-E4B4B877EE72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2408-4129-40DE-B409-8407BB91FCE9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F0DE-8129-4308-A8DE-EDDF479AEA97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20ED-9CA6-430C-A075-DFB76A5A115A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5C06-DC7B-438F-B32C-66AF30A7F3AE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E84E-E707-43C9-AFEB-F410B9CF6AA6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4073-27DD-400A-B514-CDED759AA548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3784-9F23-4EDE-AE17-5BD53A4896B9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3509-BA5B-4C44-9642-4DE7749647EA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B2C4-8B64-4C76-8893-3401F0A84A44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6A78-E9D3-4DD3-B811-8D7A61288521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0CF3-0E29-46A6-9B93-644E5D8689CC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C01C-51C9-4822-A19C-5579D166B518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B24B-2C1B-4FE3-BA42-84422E5D45D6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16FE-A278-4FEF-BEFD-8A2D67F836F4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247E-B1DA-4AF9-9941-01717BE02196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7B75-19D9-4B8F-9407-225E49504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ADE4-F4B3-4AF5-AC83-CD0971C8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D33E-9AEA-49E5-8A69-E443A9710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C2B6-4627-4581-99AD-C16C23759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C746-07EA-4AE5-8C8E-9D2B3F93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E1A9-030B-4796-AC5A-0836F1DD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6205-0B99-4565-B36E-347BE251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4FB2-B864-4134-95FB-18D38A6A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98FE-FC92-41CB-A8AE-6438C487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A239-30CC-45AE-9628-F9E9F752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A553-07B3-4BBD-9B22-CB18369D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1915-ABEE-42B4-82C3-DCD8592A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rmAutofit fontScale="70000"/>
          </a:bodyPr>
          <a:p>
            <a:pPr marL="24012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  <a:p>
            <a:pPr lvl="1" marL="240120" indent="-240120" algn="ctr">
              <a:spcBef>
                <a:spcPts val="1001"/>
              </a:spcBef>
              <a:buClr>
                <a:srgbClr val="ffffff"/>
              </a:buClr>
              <a:buFont typeface="Enchante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  <a:p>
            <a:pPr lvl="2" marL="240120" indent="-240120" algn="ctr">
              <a:spcBef>
                <a:spcPts val="1001"/>
              </a:spcBef>
              <a:buClr>
                <a:srgbClr val="ffffff"/>
              </a:buClr>
              <a:buFont typeface="Enchant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  <a:p>
            <a:pPr lvl="3" marL="240120" indent="-240120" algn="ctr">
              <a:spcBef>
                <a:spcPts val="1001"/>
              </a:spcBef>
              <a:buClr>
                <a:srgbClr val="ffffff"/>
              </a:buClr>
              <a:buFont typeface="Enchante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  <a:p>
            <a:pPr lvl="4" marL="240120" indent="-240120" algn="ctr">
              <a:spcBef>
                <a:spcPts val="1001"/>
              </a:spcBef>
              <a:buClr>
                <a:srgbClr val="ffffff"/>
              </a:buClr>
              <a:buFont typeface="Enchante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  <a:p>
            <a:pPr lvl="5" marL="240120" indent="-240120" algn="ctr">
              <a:spcBef>
                <a:spcPts val="1001"/>
              </a:spcBef>
              <a:buClr>
                <a:srgbClr val="000000"/>
              </a:buClr>
              <a:buFont typeface="Enchante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  <a:p>
            <a:pPr lvl="6" marL="240120" indent="-240120" algn="ctr">
              <a:spcBef>
                <a:spcPts val="1001"/>
              </a:spcBef>
              <a:buClr>
                <a:srgbClr val="000000"/>
              </a:buClr>
              <a:buFont typeface="Enchante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34F1-3123-4FD8-9861-5D4725441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intro-short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dailydoubl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hyperlink" Target="file:///tmp/home/.config/libreoffice/4/user/gallery/endround.wa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intro-short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endrou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jeopardyheader"/>
          <p:cNvPicPr/>
          <p:nvPr/>
        </p:nvPicPr>
        <p:blipFill>
          <a:blip r:embed="rId1"/>
          <a:stretch/>
        </p:blipFill>
        <p:spPr>
          <a:xfrm>
            <a:off x="2819520" y="1828800"/>
            <a:ext cx="3490920" cy="1066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9" name="this936.wav" descr=""/>
          <p:cNvPicPr/>
          <p:nvPr/>
        </p:nvPicPr>
        <p:blipFill>
          <a:blip r:embed="rId2"/>
          <a:stretch/>
        </p:blipFill>
        <p:spPr>
          <a:xfrm>
            <a:off x="868680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449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intro-sho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Scavengers $400-Answer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A carnivore is an organism that only eats meat.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Scavengers $600-Answer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A predator is an organism that eats the other organism. 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Scavengers $800-Answer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A herbivore is an organism that only eats plants.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Scavengers $1000-Answer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A prey is an organism that gets eaten by  another organism.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Ecosystem 1 $200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What is an ecosystem?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6"/>
          <p:cNvSpPr txBox="1"/>
          <p:nvPr/>
        </p:nvSpPr>
        <p:spPr>
          <a:xfrm rot="20780400">
            <a:off x="1271160" y="3854520"/>
            <a:ext cx="6413400" cy="18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513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Daily Double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Ecosystem 1 $400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685800" y="1965240"/>
            <a:ext cx="7772400" cy="13129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Flareserif821 BT"/>
              </a:rPr>
              <a:t>Name the nonliving parts in an ecosystem.</a:t>
            </a:r>
            <a:endParaRPr b="0" lang="en-US" sz="40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  <p:transition>
    <p:checker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ailydoub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Ecosystem 1 $600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Name the living parts in an ecosystem.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Ecosystem 1 $800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Where does an ecosystem get energy from?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Ecosystem 1 $1000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What is a population?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Ecosystem 1 $200-Answer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An ecosystem is all the living  and nonliving things in an environment and the many ways they interact. 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611280" y="159876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609480" y="25909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609480" y="35812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6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609480" y="46483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8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609480" y="56386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10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2744640" y="159876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2743200" y="25909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2743200" y="35812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6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2743200" y="46483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8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2743200" y="56386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10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4878360" y="159876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4876920" y="25909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4876920" y="35812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6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4876920" y="46483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8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64" name="Text Box 23"/>
          <p:cNvSpPr/>
          <p:nvPr/>
        </p:nvSpPr>
        <p:spPr>
          <a:xfrm>
            <a:off x="4876920" y="56386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10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65" name="Text Box 24"/>
          <p:cNvSpPr/>
          <p:nvPr/>
        </p:nvSpPr>
        <p:spPr>
          <a:xfrm>
            <a:off x="7012080" y="159876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66" name="Text Box 25"/>
          <p:cNvSpPr/>
          <p:nvPr/>
        </p:nvSpPr>
        <p:spPr>
          <a:xfrm>
            <a:off x="7010280" y="25909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67" name="Text Box 26"/>
          <p:cNvSpPr/>
          <p:nvPr/>
        </p:nvSpPr>
        <p:spPr>
          <a:xfrm>
            <a:off x="7010280" y="35812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6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68" name="Text Box 27"/>
          <p:cNvSpPr/>
          <p:nvPr/>
        </p:nvSpPr>
        <p:spPr>
          <a:xfrm>
            <a:off x="7010280" y="46483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8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7010280" y="56386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10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pic>
        <p:nvPicPr>
          <p:cNvPr id="70" name="boar952.wav" descr=""/>
          <p:cNvPicPr/>
          <p:nvPr/>
        </p:nvPicPr>
        <p:blipFill>
          <a:blip r:embed="rId1"/>
          <a:stretch/>
        </p:blipFill>
        <p:spPr>
          <a:xfrm>
            <a:off x="-45720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4"/>
          <p:cNvSpPr/>
          <p:nvPr/>
        </p:nvSpPr>
        <p:spPr>
          <a:xfrm>
            <a:off x="609480" y="304920"/>
            <a:ext cx="1752840" cy="3988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Enchanted"/>
              </a:rPr>
              <a:t>Scavengers</a:t>
            </a:r>
            <a:endParaRPr b="0" lang="en-US" sz="20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72" name="Text Box 35"/>
          <p:cNvSpPr/>
          <p:nvPr/>
        </p:nvSpPr>
        <p:spPr>
          <a:xfrm>
            <a:off x="2743200" y="304920"/>
            <a:ext cx="1828800" cy="3988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Flareserif821 BT"/>
              </a:rPr>
              <a:t>Ecosystem 1</a:t>
            </a:r>
            <a:endParaRPr b="0" lang="en-US" sz="20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73" name="Text Box 36"/>
          <p:cNvSpPr/>
          <p:nvPr/>
        </p:nvSpPr>
        <p:spPr>
          <a:xfrm>
            <a:off x="4875120" y="295200"/>
            <a:ext cx="1752840" cy="3988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Flareserif821 BT"/>
              </a:rPr>
              <a:t>Ecosystem 2</a:t>
            </a:r>
            <a:endParaRPr b="0" lang="en-US" sz="20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74" name="Text Box 37"/>
          <p:cNvSpPr/>
          <p:nvPr/>
        </p:nvSpPr>
        <p:spPr>
          <a:xfrm>
            <a:off x="6934320" y="304920"/>
            <a:ext cx="1752480" cy="459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Enchanted"/>
              </a:rPr>
              <a:t>Food chains and food webs</a:t>
            </a:r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  <p:transition>
    <p:checker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4168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Ecosystem 1 $400-Answer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Water, sun, soil, and rocks.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Ecosystem 1 $600-Answer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The living parts of an ecosystem are plants, animals, and humans.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Ecosystem 1 $800-Answer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The Sun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Ecosystem 1 $1000-Answer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A population is all the members of one species living in an area of the ecosystem.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Ecosystem 2 $200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What are producers in an ecosystem?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Ecosystem 2 $400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What are consumers in an ecosystem?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Ecosystem 2 $600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What ecosystem has limited water?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Ecosystem 2 $800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What is a community?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Ecosystem 2 $1000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Can you name a few ecosystems?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Ecosystem 2 $200-Answer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Producers are plants like trees or cactus.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609480" y="304920"/>
            <a:ext cx="1752840" cy="3988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Enchanted"/>
              </a:rPr>
              <a:t>Scavengers</a:t>
            </a:r>
            <a:endParaRPr b="0" lang="en-US" sz="20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743200" y="304920"/>
            <a:ext cx="1828800" cy="3988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Flareserif821 BT"/>
              </a:rPr>
              <a:t>Ecosystem 1</a:t>
            </a:r>
            <a:endParaRPr b="0" lang="en-US" sz="20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4876920" y="304920"/>
            <a:ext cx="1752480" cy="7038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Enchanted"/>
              </a:rPr>
              <a:t>Ecosystem 2</a:t>
            </a:r>
            <a:endParaRPr b="0" lang="en-US" sz="20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6934320" y="304920"/>
            <a:ext cx="1752480" cy="459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Enchanted"/>
              </a:rPr>
              <a:t>Food chains and food webs</a:t>
            </a:r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609480" y="1600200"/>
            <a:ext cx="1751040" cy="5101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Enchanted"/>
                <a:hlinkClick r:id="rId1" action="ppaction://hlinksldjump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609480" y="25909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609480" y="35812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6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609480" y="46483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8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609480" y="56386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10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2744640" y="159876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2743200" y="25909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2743200" y="35812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6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2743200" y="46483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8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2743200" y="56386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10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4865760" y="15652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90" name="Text Box 17"/>
          <p:cNvSpPr/>
          <p:nvPr/>
        </p:nvSpPr>
        <p:spPr>
          <a:xfrm>
            <a:off x="4876920" y="25909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91" name="Text Box 18"/>
          <p:cNvSpPr/>
          <p:nvPr/>
        </p:nvSpPr>
        <p:spPr>
          <a:xfrm>
            <a:off x="4876920" y="35812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6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4876920" y="46483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8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93" name="Text Box 20"/>
          <p:cNvSpPr/>
          <p:nvPr/>
        </p:nvSpPr>
        <p:spPr>
          <a:xfrm>
            <a:off x="4876920" y="56386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10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94" name="Text Box 21"/>
          <p:cNvSpPr/>
          <p:nvPr/>
        </p:nvSpPr>
        <p:spPr>
          <a:xfrm>
            <a:off x="7010280" y="160020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95" name="Text Box 23"/>
          <p:cNvSpPr/>
          <p:nvPr/>
        </p:nvSpPr>
        <p:spPr>
          <a:xfrm>
            <a:off x="7010280" y="35812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6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96" name="Text Box 24"/>
          <p:cNvSpPr/>
          <p:nvPr/>
        </p:nvSpPr>
        <p:spPr>
          <a:xfrm>
            <a:off x="7010280" y="46483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8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97" name="AutoShape 27">
            <a:hlinkClick r:id="rId2"/>
          </p:cNvPr>
          <p:cNvSpPr/>
          <p:nvPr/>
        </p:nvSpPr>
        <p:spPr>
          <a:xfrm>
            <a:off x="8839080" y="6649920"/>
            <a:ext cx="304920" cy="208080"/>
          </a:xfrm>
          <a:custGeom>
            <a:avLst/>
            <a:gdLst>
              <a:gd name="textAreaLeft" fmla="*/ 13320 w 304920"/>
              <a:gd name="textAreaRight" fmla="*/ 291600 w 304920"/>
              <a:gd name="textAreaTop" fmla="*/ 13320 h 208080"/>
              <a:gd name="textAreaBottom" fmla="*/ 194760 h 208080"/>
            </a:gdLst>
            <a:ahLst/>
            <a:rect l="textAreaLeft" t="textAreaTop" r="textAreaRight" b="textAreaBottom"/>
            <a:pathLst>
              <a:path w="31635" h="21600">
                <a:moveTo>
                  <a:pt x="0" y="0"/>
                </a:moveTo>
                <a:lnTo>
                  <a:pt x="31635" y="0"/>
                </a:lnTo>
                <a:lnTo>
                  <a:pt x="31635" y="21600"/>
                </a:lnTo>
                <a:lnTo>
                  <a:pt x="0" y="21600"/>
                </a:lnTo>
                <a:close/>
              </a:path>
              <a:path fill="lightenLess" w="31635" h="21600">
                <a:moveTo>
                  <a:pt x="0" y="0"/>
                </a:moveTo>
                <a:lnTo>
                  <a:pt x="31635" y="0"/>
                </a:lnTo>
                <a:lnTo>
                  <a:pt x="30235" y="1400"/>
                </a:lnTo>
                <a:lnTo>
                  <a:pt x="1400" y="1400"/>
                </a:lnTo>
                <a:close/>
              </a:path>
              <a:path fill="darken" w="31635" h="21600">
                <a:moveTo>
                  <a:pt x="31635" y="0"/>
                </a:moveTo>
                <a:lnTo>
                  <a:pt x="31635" y="21600"/>
                </a:lnTo>
                <a:lnTo>
                  <a:pt x="30235" y="20200"/>
                </a:lnTo>
                <a:lnTo>
                  <a:pt x="30235" y="1400"/>
                </a:lnTo>
                <a:close/>
              </a:path>
              <a:path fill="darkenLess" w="31635" h="21600">
                <a:moveTo>
                  <a:pt x="31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235" y="20200"/>
                </a:lnTo>
                <a:close/>
              </a:path>
              <a:path fill="lighten" w="31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98" name="Text Box 29"/>
          <p:cNvSpPr/>
          <p:nvPr/>
        </p:nvSpPr>
        <p:spPr>
          <a:xfrm>
            <a:off x="7012080" y="25909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99" name="Text Box 30"/>
          <p:cNvSpPr/>
          <p:nvPr/>
        </p:nvSpPr>
        <p:spPr>
          <a:xfrm>
            <a:off x="7010280" y="56386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10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  <p:transition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Ecosystem 2 $400-Answer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Consumers are those who eat other things, like tiger, insect, and fish.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Ecosystem 2 $600-Answer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Desert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Ecosystem 2 $800-Answer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It is an area where different populations interact with each other.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Ecosystem 2 $1000-Answer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Coral reefs, rain forests, oceans, rivers, deserts, and towns or cities. 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Enchanted"/>
              </a:rPr>
              <a:t>Food chains and food webs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 $200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What is a food web?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Enchanted"/>
              </a:rPr>
              <a:t>Food chains and food webs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 $400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What does green plants do with the sunlight?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Enchanted"/>
              </a:rPr>
              <a:t>Food chains and food webs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 $600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How does green plant get their food?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Enchanted"/>
              </a:rPr>
              <a:t>Food chains and food webs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 $800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What do decomposers do in an ecosystem?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Enchanted"/>
              </a:rPr>
              <a:t>Food chains and food webs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 $1000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What are four main parts consisted of a food chain? 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Enchanted"/>
              </a:rPr>
              <a:t>Food chains and food webs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 $200-Answer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Food webs have many overlapping food chains.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Scavengers $200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What is an omnivore?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Enchanted"/>
              </a:rPr>
              <a:t>Food chains and food webs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$400-Answer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Green plants change sunlight into a usable energy source.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Enchanted"/>
              </a:rPr>
              <a:t>Food chains and food webs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$600-Answer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Green plants make their own food by using the Sun energy, carbon dioxide, and water.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Enchanted"/>
              </a:rPr>
              <a:t>Food chains and food webs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 $800-Answer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Decomposers break down the remains of dead plants and animals, and return nutrients to the soil and ecosystem.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Enchanted"/>
              </a:rPr>
              <a:t>Food chains and food webs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$1000-Answer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The Sun, producers, consumers, and decomposers.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Gyparody"/>
              </a:rPr>
              <a:t>Final Jeopardy</a:t>
            </a:r>
            <a:endParaRPr b="0" lang="en-US" sz="54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Enchanted"/>
              </a:rPr>
              <a:t>Category -Ecosystem</a:t>
            </a:r>
            <a:endParaRPr b="0" lang="en-US" sz="72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Gyparody"/>
              </a:rPr>
              <a:t>Final Jeopardy</a:t>
            </a:r>
            <a:endParaRPr b="0" lang="en-US" sz="54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933120" y="6156360"/>
            <a:ext cx="75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Flareserif821 BT"/>
              </a:rPr>
              <a:t>You have 1 minute to consult…</a:t>
            </a:r>
            <a:endParaRPr b="0" lang="en-US" sz="40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How can we help to protect the ecosystem?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 advTm="30000">
    <p:wheel spokes="1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intro-sho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Gyparody"/>
              </a:rPr>
              <a:t>Final Jeopardy</a:t>
            </a:r>
            <a:endParaRPr b="0" lang="en-US" sz="54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664920" y="6156360"/>
            <a:ext cx="804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Flareserif821 BT"/>
              </a:rPr>
              <a:t>You have 30 seconds to consult…</a:t>
            </a:r>
            <a:endParaRPr b="0" lang="en-US" sz="40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How can we help to protect the ecosystem?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 advTm="15000">
    <p:wheel spokes="1"/>
    <p:sndAc>
      <p:stSnd>
        <p:snd r:embed="rId1" name="CHIMES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Gyparody"/>
              </a:rPr>
              <a:t>Final Jeopardy</a:t>
            </a:r>
            <a:endParaRPr b="0" lang="en-US" sz="54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664920" y="6156360"/>
            <a:ext cx="804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Flareserif821 BT"/>
              </a:rPr>
              <a:t>You have 15 seconds to consult…</a:t>
            </a:r>
            <a:endParaRPr b="0" lang="en-US" sz="40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How can we help to protect the ecosystem?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 advTm="15000">
    <p:wheel spokes="1"/>
    <p:sndAc>
      <p:stSnd>
        <p:snd r:embed="rId1" name="CHIMES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Gyparody"/>
              </a:rPr>
              <a:t>Final Jeopardy</a:t>
            </a:r>
            <a:endParaRPr b="0" lang="en-US" sz="54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3327840" y="6156360"/>
            <a:ext cx="271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Flareserif821 BT"/>
              </a:rPr>
              <a:t>Time Is Up</a:t>
            </a:r>
            <a:endParaRPr b="0" lang="en-US" sz="40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How can we help to protect the ecosystem?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  <p:sndAc>
      <p:stSnd>
        <p:snd r:embed="rId1" name="endround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Gyparody"/>
              </a:rPr>
              <a:t>Final Jeopardy - Answer</a:t>
            </a:r>
            <a:endParaRPr b="0" lang="en-US" sz="48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571680" indent="-5716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nchanted"/>
              </a:rPr>
              <a:t>Recycle paper, water bottles, soda cans, </a:t>
            </a:r>
            <a:endParaRPr b="0" lang="en-US" sz="3200" spc="-1" strike="noStrike">
              <a:solidFill>
                <a:srgbClr val="ffffff"/>
              </a:solidFill>
              <a:latin typeface="Enchanted"/>
            </a:endParaRPr>
          </a:p>
          <a:p>
            <a:pPr marL="571680" indent="-5716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nchanted"/>
              </a:rPr>
              <a:t>walk or bike to school, </a:t>
            </a:r>
            <a:endParaRPr b="0" lang="en-US" sz="3200" spc="-1" strike="noStrike">
              <a:solidFill>
                <a:srgbClr val="ffffff"/>
              </a:solidFill>
              <a:latin typeface="Enchanted"/>
            </a:endParaRPr>
          </a:p>
          <a:p>
            <a:pPr marL="571680" indent="-5716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nchanted"/>
              </a:rPr>
              <a:t>turn off lights and TV when not in use, </a:t>
            </a:r>
            <a:endParaRPr b="0" lang="en-US" sz="3200" spc="-1" strike="noStrike">
              <a:solidFill>
                <a:srgbClr val="ffffff"/>
              </a:solidFill>
              <a:latin typeface="Enchanted"/>
            </a:endParaRPr>
          </a:p>
          <a:p>
            <a:pPr marL="571680" indent="-5716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nchanted"/>
              </a:rPr>
              <a:t>pull weeds by hand instead of using chemicals</a:t>
            </a:r>
            <a:endParaRPr b="0" lang="en-US" sz="3200" spc="-1" strike="noStrike">
              <a:solidFill>
                <a:srgbClr val="ffffff"/>
              </a:solidFill>
              <a:latin typeface="Enchanted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more…</a:t>
            </a:r>
            <a:endParaRPr b="0" lang="en-US" sz="32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Scavengers $400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What is a carnivore?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Gyparody"/>
              </a:rPr>
              <a:t>Jeopardy</a:t>
            </a:r>
            <a:endParaRPr b="0" lang="en-US" sz="54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nchanted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nchanted"/>
              </a:rPr>
              <a:t>Thank you for playing another fine round of America’s favorite question and answer game.</a:t>
            </a:r>
            <a:endParaRPr b="0" lang="en-US" sz="44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Scavengers $600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What is a predator?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Scavengers $800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What is a herbivore?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Scavengers $1000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What is a prey?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Scavengers $200-Answer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An omnivore is an organism that eats plants and animals.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5T00:03:29Z</dcterms:created>
  <dc:creator>David and Ady Brower</dc:creator>
  <dc:description/>
  <dc:language>en-US</dc:language>
  <cp:lastModifiedBy>udsd</cp:lastModifiedBy>
  <dcterms:modified xsi:type="dcterms:W3CDTF">2010-12-23T18:11:21Z</dcterms:modified>
  <cp:revision>145</cp:revision>
  <dc:subject/>
  <dc:title>Greek Jeopardy</dc:title>
</cp:coreProperties>
</file>